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C21E-9CFA-44F8-8C64-64C8FE450A2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BB1C-944D-4D03-9601-FC1B5F6A0A1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5F34-0925-4B12-A499-EA5FADF85F1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E249-851F-4604-BEF8-84B40AEAA9F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A6E-F89F-49EA-BA3A-680B4E09F6B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245-487B-43A0-8AC6-DA650570215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80A-5E04-433E-AF7F-DC3D41CD8CF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245-852B-4AB1-B59B-FDC6D55E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0E3-5432-46FE-9A66-6BCD6F7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113-E16C-4ECB-8F71-B9E8D583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DAE-3B35-4225-B673-B60C1709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D98-B140-4D45-871D-C240B47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D65-EDA0-4F5E-B577-780A228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1CF-06E0-4E01-B0A5-EF4E3DA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FF6-BBAE-4532-83D0-3B36B51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8CC-92DB-47DA-84E0-9257F18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4AC-5153-48A7-A395-712370A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515-FF93-4EEB-A74A-61D20DE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0B3-1C2E-4D02-AC48-43B267E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1BC7-2D25-4B80-B758-49EE8CB62264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A8E1E4-62BC-4DFD-B956-0B1062E179C4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۴:۲۷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456-EB5F-4659-8322-A77B3CBD71A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49" name="Rounded Rectangle 12"/>
          <p:cNvGrpSpPr/>
          <p:nvPr/>
        </p:nvGrpSpPr>
        <p:grpSpPr>
          <a:xfrm>
            <a:off x="7851600" y="719280"/>
            <a:ext cx="1225800" cy="549000"/>
            <a:chOff x="7851600" y="719280"/>
            <a:chExt cx="1225800" cy="549000"/>
          </a:xfrm>
        </p:grpSpPr>
        <p:pic>
          <p:nvPicPr>
            <p:cNvPr id="50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7851600" y="719280"/>
              <a:ext cx="12258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885080" y="750960"/>
              <a:ext cx="1160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شناسنامه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روپوزا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19">
            <a:hlinkClick r:id="rId5" action="ppaction://hlinksldjump"/>
          </p:cNvPr>
          <p:cNvSpPr/>
          <p:nvPr/>
        </p:nvSpPr>
        <p:spPr>
          <a:xfrm>
            <a:off x="7840800" y="2022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20">
            <a:hlinkClick r:id="rId6" action="ppaction://hlinksldjump"/>
          </p:cNvPr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816120"/>
          <a:ext cx="7343640" cy="5611680"/>
        </p:xfrm>
        <a:graphic>
          <a:graphicData uri="http://schemas.openxmlformats.org/drawingml/2006/table">
            <a:tbl>
              <a:tblPr/>
              <a:tblGrid>
                <a:gridCol w="4730760"/>
                <a:gridCol w="2612880"/>
              </a:tblGrid>
              <a:tr h="1879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ررس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عنوان پروپوزا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کارشناسی ارشد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قطع تحصیل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گونوم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گروه آموزش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تاد راهنم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اتید مشاو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دانشجو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" name="Rounded Rectangle 11">
            <a:hlinkClick r:id="rId7" action="ppaction://hlinksldjump"/>
          </p:cNvPr>
          <p:cNvSpPr/>
          <p:nvPr/>
        </p:nvSpPr>
        <p:spPr>
          <a:xfrm>
            <a:off x="7837560" y="1417680"/>
            <a:ext cx="121428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3">
            <a:hlinkClick r:id="rId8" action="ppaction://hlinksldjump"/>
          </p:cNvPr>
          <p:cNvSpPr/>
          <p:nvPr/>
        </p:nvSpPr>
        <p:spPr>
          <a:xfrm>
            <a:off x="7837560" y="26290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124000" y="2142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Calibri"/>
              </a:rPr>
              <a:t>به نام خد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B359-EEB2-4A35-A7BD-41F27E983B41}" type="slidenum">
              <a:rPr b="1" lang="fa-IR" sz="24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I:\pic\arm shahid sadooghi.gif"/>
          <p:cNvPicPr/>
          <p:nvPr/>
        </p:nvPicPr>
        <p:blipFill>
          <a:blip r:embed="rId9"/>
          <a:stretch/>
        </p:blipFill>
        <p:spPr>
          <a:xfrm>
            <a:off x="250920" y="50760"/>
            <a:ext cx="8794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63" name="Rounded Rectangle 13"/>
          <p:cNvGrpSpPr/>
          <p:nvPr/>
        </p:nvGrpSpPr>
        <p:grpSpPr>
          <a:xfrm>
            <a:off x="7851600" y="1359000"/>
            <a:ext cx="1225800" cy="420480"/>
            <a:chOff x="7851600" y="1359000"/>
            <a:chExt cx="1225800" cy="420480"/>
          </a:xfrm>
        </p:grpSpPr>
        <p:pic>
          <p:nvPicPr>
            <p:cNvPr id="64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51600" y="1359000"/>
              <a:ext cx="12258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878600" y="138420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یان مسال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19">
            <a:hlinkClick r:id="rId6" action="ppaction://hlinksldjump"/>
          </p:cNvPr>
          <p:cNvSpPr/>
          <p:nvPr/>
        </p:nvSpPr>
        <p:spPr>
          <a:xfrm>
            <a:off x="7858080" y="1895400"/>
            <a:ext cx="1177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20">
            <a:hlinkClick r:id="rId7" action="ppaction://hlinksldjump"/>
          </p:cNvPr>
          <p:cNvSpPr/>
          <p:nvPr/>
        </p:nvSpPr>
        <p:spPr>
          <a:xfrm>
            <a:off x="7858080" y="316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4000" y="684360"/>
            <a:ext cx="705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صنايع و ک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آخ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در بسیا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14">
            <a:hlinkClick r:id="rId8" action="ppaction://hlinksldjump"/>
          </p:cNvPr>
          <p:cNvSpPr/>
          <p:nvPr/>
        </p:nvSpPr>
        <p:spPr>
          <a:xfrm>
            <a:off x="7839000" y="25304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75" name="Rounded Rectangle 14"/>
          <p:cNvGrpSpPr/>
          <p:nvPr/>
        </p:nvGrpSpPr>
        <p:grpSpPr>
          <a:xfrm>
            <a:off x="7851600" y="2000160"/>
            <a:ext cx="1225800" cy="457200"/>
            <a:chOff x="7851600" y="2000160"/>
            <a:chExt cx="1225800" cy="457200"/>
          </a:xfrm>
        </p:grpSpPr>
        <p:pic>
          <p:nvPicPr>
            <p:cNvPr id="76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7851600" y="2000160"/>
              <a:ext cx="1225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880400" y="2028960"/>
              <a:ext cx="11700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ررسی متو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18">
            <a:hlinkClick r:id="rId5" action="ppaction://hlinksldjump"/>
          </p:cNvPr>
          <p:cNvSpPr/>
          <p:nvPr/>
        </p:nvSpPr>
        <p:spPr>
          <a:xfrm>
            <a:off x="7858080" y="66672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20">
            <a:hlinkClick r:id="rId6" action="ppaction://hlinksldjump"/>
          </p:cNvPr>
          <p:cNvSpPr/>
          <p:nvPr/>
        </p:nvSpPr>
        <p:spPr>
          <a:xfrm>
            <a:off x="7858080" y="3367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12">
            <a:hlinkClick r:id="rId7" action="ppaction://hlinksldjump"/>
          </p:cNvPr>
          <p:cNvSpPr/>
          <p:nvPr/>
        </p:nvSpPr>
        <p:spPr>
          <a:xfrm>
            <a:off x="7858080" y="1238400"/>
            <a:ext cx="121464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955800"/>
          <a:ext cx="7479000" cy="3551040"/>
        </p:xfrm>
        <a:graphic>
          <a:graphicData uri="http://schemas.openxmlformats.org/drawingml/2006/table">
            <a:tbl>
              <a:tblPr/>
              <a:tblGrid>
                <a:gridCol w="3355920"/>
                <a:gridCol w="2462400"/>
                <a:gridCol w="774720"/>
                <a:gridCol w="885960"/>
              </a:tblGrid>
              <a:tr h="62604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تای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ک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س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حقق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روزاد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103860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فن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سمیت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صارم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" name="Rounded Rectangle 15">
            <a:hlinkClick r:id="rId8" action="ppaction://hlinksldjump"/>
          </p:cNvPr>
          <p:cNvSpPr/>
          <p:nvPr/>
        </p:nvSpPr>
        <p:spPr>
          <a:xfrm>
            <a:off x="7858080" y="26668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87" name="Rounded Rectangle 13"/>
          <p:cNvGrpSpPr/>
          <p:nvPr/>
        </p:nvGrpSpPr>
        <p:grpSpPr>
          <a:xfrm>
            <a:off x="7815240" y="2712960"/>
            <a:ext cx="1231920" cy="474840"/>
            <a:chOff x="7815240" y="2712960"/>
            <a:chExt cx="1231920" cy="474840"/>
          </a:xfrm>
        </p:grpSpPr>
        <p:pic>
          <p:nvPicPr>
            <p:cNvPr id="88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15240" y="2712960"/>
              <a:ext cx="12319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845480" y="2738520"/>
              <a:ext cx="117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اهدا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19">
            <a:hlinkClick r:id="rId6" action="ppaction://hlinksldjump"/>
          </p:cNvPr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20">
            <a:hlinkClick r:id="rId7" action="ppaction://hlinksldjump"/>
          </p:cNvPr>
          <p:cNvSpPr/>
          <p:nvPr/>
        </p:nvSpPr>
        <p:spPr>
          <a:xfrm>
            <a:off x="7858080" y="33098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ounded Rectangle 21">
            <a:hlinkClick r:id="rId8" action="ppaction://hlinksldjump"/>
          </p:cNvPr>
          <p:cNvSpPr/>
          <p:nvPr/>
        </p:nvSpPr>
        <p:spPr>
          <a:xfrm>
            <a:off x="7858080" y="14558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6341040" y="779400"/>
            <a:ext cx="163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هدف کل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303120" y="277920"/>
            <a:ext cx="628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6102000" y="3735360"/>
            <a:ext cx="1911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اهداف ویژ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120600" y="3154320"/>
            <a:ext cx="634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4">
            <a:hlinkClick r:id="rId9" action="ppaction://hlinksldjump"/>
          </p:cNvPr>
          <p:cNvSpPr/>
          <p:nvPr/>
        </p:nvSpPr>
        <p:spPr>
          <a:xfrm>
            <a:off x="7858080" y="39942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03" name="Rounded Rectangle 15"/>
          <p:cNvGrpSpPr/>
          <p:nvPr/>
        </p:nvGrpSpPr>
        <p:grpSpPr>
          <a:xfrm>
            <a:off x="7851600" y="3413160"/>
            <a:ext cx="1225800" cy="512640"/>
            <a:chOff x="7851600" y="3413160"/>
            <a:chExt cx="1225800" cy="512640"/>
          </a:xfrm>
        </p:grpSpPr>
        <p:pic>
          <p:nvPicPr>
            <p:cNvPr id="104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13160"/>
              <a:ext cx="1225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881840" y="3444840"/>
              <a:ext cx="11667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le 18"/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20"/>
          <p:cNvSpPr/>
          <p:nvPr/>
        </p:nvSpPr>
        <p:spPr>
          <a:xfrm>
            <a:off x="7858080" y="201312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21"/>
          <p:cNvSpPr/>
          <p:nvPr/>
        </p:nvSpPr>
        <p:spPr>
          <a:xfrm>
            <a:off x="7878600" y="26510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2"/>
          <p:cNvSpPr/>
          <p:nvPr/>
        </p:nvSpPr>
        <p:spPr>
          <a:xfrm>
            <a:off x="7858080" y="1295280"/>
            <a:ext cx="121464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547560"/>
          <a:ext cx="7513920" cy="5826240"/>
        </p:xfrm>
        <a:graphic>
          <a:graphicData uri="http://schemas.openxmlformats.org/drawingml/2006/table">
            <a:tbl>
              <a:tblPr/>
              <a:tblGrid>
                <a:gridCol w="5800680"/>
                <a:gridCol w="1713240"/>
              </a:tblGrid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وع مطالع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جامعه مورد بررس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279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نمونه گیری و تعیین حجم نمون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ور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0382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خرو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بزارهای جمع آوری اطلاع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آنالیز آمار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15" name="Rounded Rectangle 15"/>
          <p:cNvGrpSpPr/>
          <p:nvPr/>
        </p:nvGrpSpPr>
        <p:grpSpPr>
          <a:xfrm>
            <a:off x="7851600" y="3432240"/>
            <a:ext cx="1225800" cy="511200"/>
            <a:chOff x="7851600" y="3432240"/>
            <a:chExt cx="1225800" cy="511200"/>
          </a:xfrm>
        </p:grpSpPr>
        <p:pic>
          <p:nvPicPr>
            <p:cNvPr id="116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3224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881840" y="345924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le 18"/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20"/>
          <p:cNvSpPr/>
          <p:nvPr/>
        </p:nvSpPr>
        <p:spPr>
          <a:xfrm>
            <a:off x="7858080" y="20448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21"/>
          <p:cNvSpPr/>
          <p:nvPr/>
        </p:nvSpPr>
        <p:spPr>
          <a:xfrm>
            <a:off x="7837560" y="277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7858080" y="1351080"/>
            <a:ext cx="1214640" cy="46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00000" y="678600"/>
            <a:ext cx="666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پژوه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801720" y="3892680"/>
            <a:ext cx="6487920" cy="1224000"/>
            <a:chOff x="801720" y="3892680"/>
            <a:chExt cx="6487920" cy="1224000"/>
          </a:xfrm>
        </p:grpSpPr>
        <p:sp>
          <p:nvSpPr>
            <p:cNvPr id="126" name="Text Box 8"/>
            <p:cNvSpPr/>
            <p:nvPr/>
          </p:nvSpPr>
          <p:spPr>
            <a:xfrm>
              <a:off x="5567760" y="3892680"/>
              <a:ext cx="1721880" cy="4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5567760" y="4685040"/>
              <a:ext cx="1721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3188880" y="4303440"/>
              <a:ext cx="13417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801720" y="4303440"/>
              <a:ext cx="14173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0" name="AutoShape 4"/>
            <p:cNvCxnSpPr/>
            <p:nvPr/>
          </p:nvCxnSpPr>
          <p:spPr>
            <a:xfrm flipH="1">
              <a:off x="4615920" y="4101480"/>
              <a:ext cx="885240" cy="3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3"/>
            <p:cNvCxnSpPr/>
            <p:nvPr/>
          </p:nvCxnSpPr>
          <p:spPr>
            <a:xfrm flipH="1" flipV="1">
              <a:off x="4615920" y="4519800"/>
              <a:ext cx="885240" cy="42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"/>
            <p:cNvCxnSpPr/>
            <p:nvPr/>
          </p:nvCxnSpPr>
          <p:spPr>
            <a:xfrm flipH="1">
              <a:off x="2304720" y="4519800"/>
              <a:ext cx="88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4:26:14Z</dcterms:created>
  <dc:creator>Omid</dc:creator>
  <dc:description/>
  <dc:language>en-US</dc:language>
  <cp:lastModifiedBy>KM</cp:lastModifiedBy>
  <dcterms:modified xsi:type="dcterms:W3CDTF">2024-07-09T07:36:56Z</dcterms:modified>
  <cp:revision>137</cp:revision>
  <dc:subject/>
  <dc:title>Slide 1</dc:title>
</cp:coreProperties>
</file>