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E115-D274-4D46-89DE-2ECDB73DDBB0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250F-BEAF-43C4-88B5-2E29F55CB57F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232A-85D8-48C8-B7D6-E71069339412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C22D-EA5A-46FD-8133-EBF70C33560A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D1FC-9485-4AD7-A565-AC229CBB4B5C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5782-600C-4258-93E1-D669C85D10B2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F73D-EF66-4635-8911-03CD5DCB07D7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3405-8FC6-4C5B-B97F-ABF7BE2C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617-20BA-4BF4-A074-6772DBA5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7E8C-4838-451F-8028-36132E3F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9A81-77EF-4F78-B0CF-8D756E6D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BFB-E508-4135-A347-BA3AF8D8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915C-4992-4981-9847-7E82A34A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BDF-BE68-496F-93BB-9A6D731B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7E4-E316-4EE8-89D5-6C1FC82A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F5A-7B5B-4DBA-90BB-E5A1F46A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7F81-8090-4140-A4D5-98D3714F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76A-F4EC-4747-B233-7BF19C0E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59DE-9B1A-422F-BF2B-62DBECB6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AF81-D530-4758-973A-44DBD7700D6F}" type="datetime">
              <a:rPr b="0" lang="fa-IR" sz="1200" spc="-1" strike="noStrike">
                <a:solidFill>
                  <a:srgbClr val="898989"/>
                </a:solidFill>
                <a:latin typeface="Calibri"/>
              </a:rPr>
              <a:t>۲۰۲۶/۰۷/۳۱</a:t>
            </a:fld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513AA8-8896-4934-9469-4F7D76DEB6E7}" type="datetime10">
              <a:rPr b="0" lang="fa-IR" sz="1200" spc="-1" strike="noStrike">
                <a:solidFill>
                  <a:srgbClr val="898989"/>
                </a:solidFill>
                <a:latin typeface="Calibri"/>
              </a:rPr>
              <a:t>۰۴:۲۷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8958-CD25-4CEE-9B7A-1BFA0457E927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2.xml"/><Relationship Id="rId8" Type="http://schemas.openxmlformats.org/officeDocument/2006/relationships/slide" Target="slide4.xml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5.xml"/><Relationship Id="rId7" Type="http://schemas.openxmlformats.org/officeDocument/2006/relationships/slide" Target="slide2.xml"/><Relationship Id="rId8" Type="http://schemas.openxmlformats.org/officeDocument/2006/relationships/slide" Target="slide5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49" name="Rounded Rectangle 12"/>
          <p:cNvGrpSpPr/>
          <p:nvPr/>
        </p:nvGrpSpPr>
        <p:grpSpPr>
          <a:xfrm>
            <a:off x="7851600" y="719280"/>
            <a:ext cx="1225800" cy="549000"/>
            <a:chOff x="7851600" y="719280"/>
            <a:chExt cx="1225800" cy="549000"/>
          </a:xfrm>
        </p:grpSpPr>
        <p:pic>
          <p:nvPicPr>
            <p:cNvPr id="50" name="Rounded Rectangle 12" descr=""/>
            <p:cNvPicPr/>
            <p:nvPr/>
          </p:nvPicPr>
          <p:blipFill>
            <a:blip r:embed="rId2"/>
            <a:stretch/>
          </p:blipFill>
          <p:spPr>
            <a:xfrm>
              <a:off x="7851600" y="719280"/>
              <a:ext cx="122580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885080" y="750960"/>
              <a:ext cx="116064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شناسنامه </a:t>
              </a:r>
              <a:br>
                <a:rPr sz="1400"/>
              </a:b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پروپوزال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54" name="Rounded Rectangle 19">
            <a:hlinkClick r:id="rId5" action="ppaction://hlinksldjump"/>
          </p:cNvPr>
          <p:cNvSpPr/>
          <p:nvPr/>
        </p:nvSpPr>
        <p:spPr>
          <a:xfrm>
            <a:off x="7840800" y="2022480"/>
            <a:ext cx="121428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ounded Rectangle 20">
            <a:hlinkClick r:id="rId6" action="ppaction://hlinksldjump"/>
          </p:cNvPr>
          <p:cNvSpPr/>
          <p:nvPr/>
        </p:nvSpPr>
        <p:spPr>
          <a:xfrm>
            <a:off x="7858080" y="32860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816120"/>
          <a:ext cx="7343640" cy="5611680"/>
        </p:xfrm>
        <a:graphic>
          <a:graphicData uri="http://schemas.openxmlformats.org/drawingml/2006/table">
            <a:tbl>
              <a:tblPr/>
              <a:tblGrid>
                <a:gridCol w="4730760"/>
                <a:gridCol w="2612880"/>
              </a:tblGrid>
              <a:tr h="18795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بررس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عنوان پروپوزال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کارشناسی ارشد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مقطع تحصیل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735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ارگونوم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گروه آموزشی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استاد راهنما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65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اساتید مشاو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دانشجو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7" name="Rounded Rectangle 11">
            <a:hlinkClick r:id="rId7" action="ppaction://hlinksldjump"/>
          </p:cNvPr>
          <p:cNvSpPr/>
          <p:nvPr/>
        </p:nvSpPr>
        <p:spPr>
          <a:xfrm>
            <a:off x="7837560" y="1417680"/>
            <a:ext cx="1214280" cy="45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ounded Rectangle 13">
            <a:hlinkClick r:id="rId8" action="ppaction://hlinksldjump"/>
          </p:cNvPr>
          <p:cNvSpPr/>
          <p:nvPr/>
        </p:nvSpPr>
        <p:spPr>
          <a:xfrm>
            <a:off x="7837560" y="2629080"/>
            <a:ext cx="121428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اهدا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2124000" y="2142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000000"/>
                </a:solidFill>
                <a:latin typeface="Calibri"/>
              </a:rPr>
              <a:t>به نام خد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3AF4-8A09-4F9F-9506-EF988BF5B934}" type="slidenum">
              <a:rPr b="1" lang="fa-IR" sz="24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4" descr="I:\pic\arm shahid sadooghi.gif"/>
          <p:cNvPicPr/>
          <p:nvPr/>
        </p:nvPicPr>
        <p:blipFill>
          <a:blip r:embed="rId9"/>
          <a:stretch/>
        </p:blipFill>
        <p:spPr>
          <a:xfrm>
            <a:off x="250920" y="50760"/>
            <a:ext cx="8794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63" name="Rounded Rectangle 13"/>
          <p:cNvGrpSpPr/>
          <p:nvPr/>
        </p:nvGrpSpPr>
        <p:grpSpPr>
          <a:xfrm>
            <a:off x="7851600" y="1359000"/>
            <a:ext cx="1225800" cy="420480"/>
            <a:chOff x="7851600" y="1359000"/>
            <a:chExt cx="1225800" cy="420480"/>
          </a:xfrm>
        </p:grpSpPr>
        <p:pic>
          <p:nvPicPr>
            <p:cNvPr id="64" name="Rounded Rectangle 13" descr=""/>
            <p:cNvPicPr/>
            <p:nvPr/>
          </p:nvPicPr>
          <p:blipFill>
            <a:blip r:embed="rId2"/>
            <a:stretch/>
          </p:blipFill>
          <p:spPr>
            <a:xfrm>
              <a:off x="7851600" y="1359000"/>
              <a:ext cx="122580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878600" y="1384200"/>
              <a:ext cx="117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بیان مساله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68" name="Rounded Rectangle 18">
            <a:hlinkClick r:id="rId5" action="ppaction://hlinksldjump"/>
          </p:cNvPr>
          <p:cNvSpPr/>
          <p:nvPr/>
        </p:nvSpPr>
        <p:spPr>
          <a:xfrm>
            <a:off x="7858080" y="8254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روپوزا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19">
            <a:hlinkClick r:id="rId6" action="ppaction://hlinksldjump"/>
          </p:cNvPr>
          <p:cNvSpPr/>
          <p:nvPr/>
        </p:nvSpPr>
        <p:spPr>
          <a:xfrm>
            <a:off x="7858080" y="1895400"/>
            <a:ext cx="11779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ounded Rectangle 20">
            <a:hlinkClick r:id="rId7" action="ppaction://hlinksldjump"/>
          </p:cNvPr>
          <p:cNvSpPr/>
          <p:nvPr/>
        </p:nvSpPr>
        <p:spPr>
          <a:xfrm>
            <a:off x="7858080" y="31654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324000" y="684360"/>
            <a:ext cx="705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Nazanin"/>
              </a:rPr>
              <a:t>صنايع و ک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Nazanin"/>
              </a:rPr>
              <a:t>آخر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Nazanin"/>
              </a:rPr>
              <a:t>در بسیار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ounded Rectangle 14">
            <a:hlinkClick r:id="rId8" action="ppaction://hlinksldjump"/>
          </p:cNvPr>
          <p:cNvSpPr/>
          <p:nvPr/>
        </p:nvSpPr>
        <p:spPr>
          <a:xfrm>
            <a:off x="7839000" y="25304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اهدا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75" name="Rounded Rectangle 14"/>
          <p:cNvGrpSpPr/>
          <p:nvPr/>
        </p:nvGrpSpPr>
        <p:grpSpPr>
          <a:xfrm>
            <a:off x="7851600" y="2000160"/>
            <a:ext cx="1225800" cy="457200"/>
            <a:chOff x="7851600" y="2000160"/>
            <a:chExt cx="1225800" cy="457200"/>
          </a:xfrm>
        </p:grpSpPr>
        <p:pic>
          <p:nvPicPr>
            <p:cNvPr id="76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7851600" y="2000160"/>
              <a:ext cx="12258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7880400" y="2028960"/>
              <a:ext cx="11700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بررسی متون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80" name="Rounded Rectangle 18">
            <a:hlinkClick r:id="rId5" action="ppaction://hlinksldjump"/>
          </p:cNvPr>
          <p:cNvSpPr/>
          <p:nvPr/>
        </p:nvSpPr>
        <p:spPr>
          <a:xfrm>
            <a:off x="7858080" y="66672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روپوزا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ounded Rectangle 20">
            <a:hlinkClick r:id="rId6" action="ppaction://hlinksldjump"/>
          </p:cNvPr>
          <p:cNvSpPr/>
          <p:nvPr/>
        </p:nvSpPr>
        <p:spPr>
          <a:xfrm>
            <a:off x="7858080" y="33670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ounded Rectangle 12">
            <a:hlinkClick r:id="rId7" action="ppaction://hlinksldjump"/>
          </p:cNvPr>
          <p:cNvSpPr/>
          <p:nvPr/>
        </p:nvSpPr>
        <p:spPr>
          <a:xfrm>
            <a:off x="7858080" y="1238400"/>
            <a:ext cx="1214640" cy="53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14200" y="955800"/>
          <a:ext cx="7479000" cy="3551040"/>
        </p:xfrm>
        <a:graphic>
          <a:graphicData uri="http://schemas.openxmlformats.org/drawingml/2006/table">
            <a:tbl>
              <a:tblPr/>
              <a:tblGrid>
                <a:gridCol w="3355920"/>
                <a:gridCol w="2462400"/>
                <a:gridCol w="774720"/>
                <a:gridCol w="885960"/>
              </a:tblGrid>
              <a:tr h="62604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نتای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روش ک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س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محقق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8467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روزادو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و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همکارا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103860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فن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و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اسمیت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صارمی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و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همکارا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4" name="Rounded Rectangle 15">
            <a:hlinkClick r:id="rId8" action="ppaction://hlinksldjump"/>
          </p:cNvPr>
          <p:cNvSpPr/>
          <p:nvPr/>
        </p:nvSpPr>
        <p:spPr>
          <a:xfrm>
            <a:off x="7858080" y="26668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اهدا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87" name="Rounded Rectangle 13"/>
          <p:cNvGrpSpPr/>
          <p:nvPr/>
        </p:nvGrpSpPr>
        <p:grpSpPr>
          <a:xfrm>
            <a:off x="7815240" y="2712960"/>
            <a:ext cx="1231920" cy="474840"/>
            <a:chOff x="7815240" y="2712960"/>
            <a:chExt cx="1231920" cy="474840"/>
          </a:xfrm>
        </p:grpSpPr>
        <p:pic>
          <p:nvPicPr>
            <p:cNvPr id="88" name="Rounded Rectangle 13" descr=""/>
            <p:cNvPicPr/>
            <p:nvPr/>
          </p:nvPicPr>
          <p:blipFill>
            <a:blip r:embed="rId2"/>
            <a:stretch/>
          </p:blipFill>
          <p:spPr>
            <a:xfrm>
              <a:off x="7815240" y="2712960"/>
              <a:ext cx="123192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845480" y="2738520"/>
              <a:ext cx="11700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اهدا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92" name="Rounded Rectangle 18">
            <a:hlinkClick r:id="rId5" action="ppaction://hlinksldjump"/>
          </p:cNvPr>
          <p:cNvSpPr/>
          <p:nvPr/>
        </p:nvSpPr>
        <p:spPr>
          <a:xfrm>
            <a:off x="7858080" y="8254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ounded Rectangle 19">
            <a:hlinkClick r:id="rId6" action="ppaction://hlinksldjump"/>
          </p:cNvPr>
          <p:cNvSpPr/>
          <p:nvPr/>
        </p:nvSpPr>
        <p:spPr>
          <a:xfrm>
            <a:off x="7858080" y="21430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ounded Rectangle 20">
            <a:hlinkClick r:id="rId7" action="ppaction://hlinksldjump"/>
          </p:cNvPr>
          <p:cNvSpPr/>
          <p:nvPr/>
        </p:nvSpPr>
        <p:spPr>
          <a:xfrm>
            <a:off x="7858080" y="33098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ounded Rectangle 21">
            <a:hlinkClick r:id="rId8" action="ppaction://hlinksldjump"/>
          </p:cNvPr>
          <p:cNvSpPr/>
          <p:nvPr/>
        </p:nvSpPr>
        <p:spPr>
          <a:xfrm>
            <a:off x="7858080" y="145584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6341040" y="779400"/>
            <a:ext cx="1639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b050"/>
                </a:solidFill>
                <a:latin typeface="Times New Roman"/>
                <a:cs typeface="B Nazanin"/>
              </a:rPr>
              <a:t>هدف کل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303120" y="277920"/>
            <a:ext cx="628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رس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6102000" y="3735360"/>
            <a:ext cx="19119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b050"/>
                </a:solidFill>
                <a:latin typeface="Times New Roman"/>
                <a:cs typeface="B Nazanin"/>
              </a:rPr>
              <a:t>اهداف ویژ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120600" y="3154320"/>
            <a:ext cx="634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ounded Rectangle 14">
            <a:hlinkClick r:id="rId9" action="ppaction://hlinksldjump"/>
          </p:cNvPr>
          <p:cNvSpPr/>
          <p:nvPr/>
        </p:nvSpPr>
        <p:spPr>
          <a:xfrm>
            <a:off x="7858080" y="399420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103" name="Rounded Rectangle 15"/>
          <p:cNvGrpSpPr/>
          <p:nvPr/>
        </p:nvGrpSpPr>
        <p:grpSpPr>
          <a:xfrm>
            <a:off x="7851600" y="3413160"/>
            <a:ext cx="1225800" cy="512640"/>
            <a:chOff x="7851600" y="3413160"/>
            <a:chExt cx="1225800" cy="512640"/>
          </a:xfrm>
        </p:grpSpPr>
        <p:pic>
          <p:nvPicPr>
            <p:cNvPr id="104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7851600" y="3413160"/>
              <a:ext cx="122580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881840" y="3444840"/>
              <a:ext cx="11667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مواد و روش کار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108" name="Rounded Rectangle 18"/>
          <p:cNvSpPr/>
          <p:nvPr/>
        </p:nvSpPr>
        <p:spPr>
          <a:xfrm>
            <a:off x="7858080" y="73980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روپوزا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ounded Rectangle 20"/>
          <p:cNvSpPr/>
          <p:nvPr/>
        </p:nvSpPr>
        <p:spPr>
          <a:xfrm>
            <a:off x="7858080" y="201312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ounded Rectangle 21"/>
          <p:cNvSpPr/>
          <p:nvPr/>
        </p:nvSpPr>
        <p:spPr>
          <a:xfrm>
            <a:off x="7878600" y="26510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اهدا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ounded Rectangle 12"/>
          <p:cNvSpPr/>
          <p:nvPr/>
        </p:nvSpPr>
        <p:spPr>
          <a:xfrm>
            <a:off x="7858080" y="1295280"/>
            <a:ext cx="1214640" cy="51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547560"/>
          <a:ext cx="7513920" cy="5826240"/>
        </p:xfrm>
        <a:graphic>
          <a:graphicData uri="http://schemas.openxmlformats.org/drawingml/2006/table">
            <a:tbl>
              <a:tblPr/>
              <a:tblGrid>
                <a:gridCol w="5800680"/>
                <a:gridCol w="1713240"/>
              </a:tblGrid>
              <a:tr h="3164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1224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نوع مطالع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12240">
                      <a:solidFill>
                        <a:srgbClr val="f69200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1224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جامعه مورد بررس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1224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</a:tr>
              <a:tr h="12794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روش نمونه گیری و تعیین حجم نمون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معیارهای ورو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</a:tr>
              <a:tr h="10382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معیارهای خرو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ابزارهای جمع آوری اطلاع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</a:tr>
              <a:tr h="3164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آنالیز آمار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115" name="Rounded Rectangle 15"/>
          <p:cNvGrpSpPr/>
          <p:nvPr/>
        </p:nvGrpSpPr>
        <p:grpSpPr>
          <a:xfrm>
            <a:off x="7851600" y="3432240"/>
            <a:ext cx="1225800" cy="511200"/>
            <a:chOff x="7851600" y="3432240"/>
            <a:chExt cx="1225800" cy="511200"/>
          </a:xfrm>
        </p:grpSpPr>
        <p:pic>
          <p:nvPicPr>
            <p:cNvPr id="116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7851600" y="3432240"/>
              <a:ext cx="12258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881840" y="3459240"/>
              <a:ext cx="11667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مواد و روش کار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8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120" name="Rounded Rectangle 18"/>
          <p:cNvSpPr/>
          <p:nvPr/>
        </p:nvSpPr>
        <p:spPr>
          <a:xfrm>
            <a:off x="7858080" y="73980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روپوزا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ounded Rectangle 20"/>
          <p:cNvSpPr/>
          <p:nvPr/>
        </p:nvSpPr>
        <p:spPr>
          <a:xfrm>
            <a:off x="7858080" y="204480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ounded Rectangle 21"/>
          <p:cNvSpPr/>
          <p:nvPr/>
        </p:nvSpPr>
        <p:spPr>
          <a:xfrm>
            <a:off x="7837560" y="2773440"/>
            <a:ext cx="121428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اهدا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ounded Rectangle 12"/>
          <p:cNvSpPr/>
          <p:nvPr/>
        </p:nvSpPr>
        <p:spPr>
          <a:xfrm>
            <a:off x="7858080" y="1351080"/>
            <a:ext cx="1214640" cy="46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900000" y="678600"/>
            <a:ext cx="6662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پژوه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1"/>
          <p:cNvGrpSpPr/>
          <p:nvPr/>
        </p:nvGrpSpPr>
        <p:grpSpPr>
          <a:xfrm>
            <a:off x="801720" y="3892680"/>
            <a:ext cx="6487920" cy="1224000"/>
            <a:chOff x="801720" y="3892680"/>
            <a:chExt cx="6487920" cy="1224000"/>
          </a:xfrm>
        </p:grpSpPr>
        <p:sp>
          <p:nvSpPr>
            <p:cNvPr id="126" name="Text Box 8"/>
            <p:cNvSpPr/>
            <p:nvPr/>
          </p:nvSpPr>
          <p:spPr>
            <a:xfrm>
              <a:off x="5567760" y="3892680"/>
              <a:ext cx="1721880" cy="41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 Box 7"/>
            <p:cNvSpPr/>
            <p:nvPr/>
          </p:nvSpPr>
          <p:spPr>
            <a:xfrm>
              <a:off x="5567760" y="4685040"/>
              <a:ext cx="17218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 Box 6"/>
            <p:cNvSpPr/>
            <p:nvPr/>
          </p:nvSpPr>
          <p:spPr>
            <a:xfrm>
              <a:off x="3188880" y="4303440"/>
              <a:ext cx="13417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 Box 5"/>
            <p:cNvSpPr/>
            <p:nvPr/>
          </p:nvSpPr>
          <p:spPr>
            <a:xfrm>
              <a:off x="801720" y="4303440"/>
              <a:ext cx="14173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30" name="AutoShape 4"/>
            <p:cNvCxnSpPr/>
            <p:nvPr/>
          </p:nvCxnSpPr>
          <p:spPr>
            <a:xfrm flipH="1">
              <a:off x="4615920" y="4101480"/>
              <a:ext cx="885240" cy="32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AutoShape 3"/>
            <p:cNvCxnSpPr/>
            <p:nvPr/>
          </p:nvCxnSpPr>
          <p:spPr>
            <a:xfrm flipH="1" flipV="1">
              <a:off x="4615920" y="4519800"/>
              <a:ext cx="885240" cy="42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AutoShape 2"/>
            <p:cNvCxnSpPr/>
            <p:nvPr/>
          </p:nvCxnSpPr>
          <p:spPr>
            <a:xfrm flipH="1">
              <a:off x="2304720" y="4519800"/>
              <a:ext cx="884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33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2T04:26:14Z</dcterms:created>
  <dc:creator>Omid</dc:creator>
  <dc:description/>
  <dc:language>en-US</dc:language>
  <cp:lastModifiedBy>KM</cp:lastModifiedBy>
  <dcterms:modified xsi:type="dcterms:W3CDTF">2024-07-09T07:36:56Z</dcterms:modified>
  <cp:revision>137</cp:revision>
  <dc:subject/>
  <dc:title>Slide 1</dc:title>
</cp:coreProperties>
</file>