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DE15-BFAF-498B-ADCE-451DC9B7295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2CB2-DBA5-4AAE-9D16-520F0161532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8975-270C-4790-AC67-7FB050D742E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4F00-0F2C-4F06-B4EE-C249644DAE8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D6F1-821E-4906-A691-C9F34FFDB00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7531-DC26-410C-A0CD-02CA39AD90D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5C57-9E69-4393-80B0-34B911565D5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58C6-7EED-4868-8B05-27C2BCF8532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6449-259D-40B8-9D2C-301887FAFEF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BE3F-442C-4178-B90B-2C9C1060EA6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0230-3E9C-444F-BFB7-FB36A835B28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2954-FD93-435A-949A-694B68CEDCF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6E57-E56C-486A-9189-AB6D2494C7B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0945-436E-47D7-883C-A19DBA6A96E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B31C-B06D-4672-A0D0-6443C4F8B35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94E-1AE0-4AC6-B9D3-5DC034DD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FFF-782A-4F56-B96F-1CDC492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6BA-3128-4074-B4CC-62091F9C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AE8-4F51-4776-A369-DB1A3408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6801-8CB8-433E-A762-9E366EDE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4E69-D770-4952-8CC1-438244A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3CC3-800D-4240-9868-38D16978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3B8-7D7F-443F-9F8E-E0484378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CDCD-CBC4-4802-BB9E-9E13D7D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9187-052B-4664-90E1-2A8A9ED7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EAD6-9CC9-48AF-B99D-43F611A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77F-E4F2-4124-9DEF-767E2119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0517-E499-4083-BFB4-4FE66EF4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C464-35C9-47B2-AEFA-A4AE5E39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B28D-D116-49BC-BAD7-C42156F7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95F8-564C-4BC3-A6F8-5B31CB2D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17B8-E92B-4BD0-86AC-B1571D5A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6699-0C93-4081-92D3-3814697C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6B92-9F8A-44FB-BA93-75751F86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C537-049A-4D0E-9743-173E518B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BE8F7-4223-46A3-9426-352F12C2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D3A0-8B56-4ECC-81E5-45CC1B5D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92B-20B0-4574-A7D4-8F638202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1251-705E-4B48-824C-BC9F6594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0275-05A1-4583-80F7-7FD547A7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076F6-BE96-4020-951E-63C427A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DE68-D54B-408F-B17A-E5186FB9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5624-3EDA-4616-9912-DA752E9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C029-BA3B-455F-8A0A-2E442801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C7B3-34AB-4982-82BD-8D2103B3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6289-71D9-46F8-99D6-967E9362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4614-4EDC-464F-AAF1-BF26E4A7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8D5A-0F98-4549-A996-7A83AAD6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CAB-A528-45A0-8470-6B87FEC4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4D79-8C16-4E9F-BF7F-D6C88B35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C381E-9530-4068-9F32-431744DF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ABA2-8AC9-42A7-A559-CD08AA70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D3D0-9EA7-4A47-9E90-24F23B7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A3A4-EF2A-41BE-B1F1-193389B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603E-74A7-4C4F-9159-D902234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8F03-671D-42B1-9D6A-98805BE4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F157-6088-4D49-81DF-0986EBD8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2D1F-D30E-4509-A73F-723091B0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522-7C36-4A2C-B770-2B242B7F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BD2-6F44-4F76-AB02-E7B7C2FC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DA5-5EC0-4A57-A9CF-3A72964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5F2-3B90-4900-BB7E-4154A28D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CF1-75E1-4641-BC3F-78AD28B9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0B54-EA06-46D6-AE0B-9851A8D5E833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FE5AFB-159C-4F7D-B229-BF2F889CC1C2}" type="datetime10">
              <a:rPr b="0" lang="fa-IR" sz="1200" spc="-1" strike="noStrike">
                <a:solidFill>
                  <a:srgbClr val="898989"/>
                </a:solidFill>
                <a:latin typeface="Calibri"/>
              </a:rPr>
              <a:t>۰۴:۲۷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32E1-49C1-4F8C-885D-DAD634E1A15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CE1E-E8A3-454F-8FD0-FEEB7526EC2A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3E1-1386-4047-82C0-4CC335CAC2D3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BC90-CA75-4CFA-84A8-BCDB20C067D2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D78-56AF-484E-8EE4-DAD243183B8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CEDF-52BC-4440-892D-4080D47FCECE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F2C2-BFF5-4125-AE24-069B386FFBC0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12"/>
          <p:cNvGrpSpPr/>
          <p:nvPr/>
        </p:nvGrpSpPr>
        <p:grpSpPr>
          <a:xfrm>
            <a:off x="7851600" y="719280"/>
            <a:ext cx="1225800" cy="549000"/>
            <a:chOff x="7851600" y="719280"/>
            <a:chExt cx="1225800" cy="549000"/>
          </a:xfrm>
        </p:grpSpPr>
        <p:pic>
          <p:nvPicPr>
            <p:cNvPr id="173" name="Rounded Rectangle 12" descr=""/>
            <p:cNvPicPr/>
            <p:nvPr/>
          </p:nvPicPr>
          <p:blipFill>
            <a:blip r:embed="rId2"/>
            <a:stretch/>
          </p:blipFill>
          <p:spPr>
            <a:xfrm>
              <a:off x="7851600" y="719280"/>
              <a:ext cx="12258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885080" y="750960"/>
              <a:ext cx="116064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شناسنامه </a:t>
              </a:r>
              <a:br>
                <a:rPr sz="1400"/>
              </a:b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پایان نامه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77" name="Rounded Rectangle 19">
            <a:hlinkClick r:id="rId5" action="ppaction://hlinksldjump"/>
          </p:cNvPr>
          <p:cNvSpPr/>
          <p:nvPr/>
        </p:nvSpPr>
        <p:spPr>
          <a:xfrm>
            <a:off x="7840800" y="2022480"/>
            <a:ext cx="12142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ounded Rectangle 20">
            <a:hlinkClick r:id="rId6" action="ppaction://hlinksldjump"/>
          </p:cNvPr>
          <p:cNvSpPr/>
          <p:nvPr/>
        </p:nvSpPr>
        <p:spPr>
          <a:xfrm>
            <a:off x="7858080" y="3286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816120"/>
          <a:ext cx="7343640" cy="5611680"/>
        </p:xfrm>
        <a:graphic>
          <a:graphicData uri="http://schemas.openxmlformats.org/drawingml/2006/table">
            <a:tbl>
              <a:tblPr/>
              <a:tblGrid>
                <a:gridCol w="4730760"/>
                <a:gridCol w="2612880"/>
              </a:tblGrid>
              <a:tr h="1879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ررس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عنوان پایان نامه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کارشناسی ارشد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قطع تحصیل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رگونوم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گروه آموزش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ستاد راهنما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65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ساتید مشاو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دانشجو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0" name="Rounded Rectangle 11">
            <a:hlinkClick r:id="rId7" action="ppaction://hlinksldjump"/>
          </p:cNvPr>
          <p:cNvSpPr/>
          <p:nvPr/>
        </p:nvSpPr>
        <p:spPr>
          <a:xfrm>
            <a:off x="7837560" y="1417680"/>
            <a:ext cx="1214280" cy="45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ounded Rectangle 13">
            <a:hlinkClick r:id="rId8" action="ppaction://hlinksldjump"/>
          </p:cNvPr>
          <p:cNvSpPr/>
          <p:nvPr/>
        </p:nvSpPr>
        <p:spPr>
          <a:xfrm>
            <a:off x="7837560" y="262908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2124000" y="2142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Calibri"/>
              </a:rPr>
              <a:t>به نام خد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FC72-F19D-4194-98DD-439218F03B3F}" type="slidenum">
              <a:rPr b="1" lang="fa-IR" sz="24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ounded Rectangle 14">
            <a:hlinkClick r:id="rId9" action="ppaction://hlinksldjump"/>
          </p:cNvPr>
          <p:cNvSpPr/>
          <p:nvPr/>
        </p:nvSpPr>
        <p:spPr>
          <a:xfrm>
            <a:off x="7888320" y="394344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5" descr="I:\pic\arm shahid sadooghi.gif"/>
          <p:cNvPicPr/>
          <p:nvPr/>
        </p:nvPicPr>
        <p:blipFill>
          <a:blip r:embed="rId10"/>
          <a:stretch/>
        </p:blipFill>
        <p:spPr>
          <a:xfrm>
            <a:off x="258840" y="41400"/>
            <a:ext cx="877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311" name="Rounded Rectangle 17"/>
          <p:cNvGrpSpPr/>
          <p:nvPr/>
        </p:nvGrpSpPr>
        <p:grpSpPr>
          <a:xfrm>
            <a:off x="7851600" y="3754440"/>
            <a:ext cx="1225800" cy="536400"/>
            <a:chOff x="7851600" y="3754440"/>
            <a:chExt cx="1225800" cy="536400"/>
          </a:xfrm>
        </p:grpSpPr>
        <p:pic>
          <p:nvPicPr>
            <p:cNvPr id="312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5444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883640" y="378612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نتیجه گیر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4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16" name="Rounded Rectangle 18">
            <a:hlinkClick r:id="rId5" action="ppaction://hlinksldjump"/>
          </p:cNvPr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ounded Rectangle 20">
            <a:hlinkClick r:id="rId6" action="ppaction://hlinksldjump"/>
          </p:cNvPr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ounded Rectangle 21">
            <a:hlinkClick r:id="rId7" action="ppaction://hlinksldjump"/>
          </p:cNvPr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ounded Rectangle 22">
            <a:hlinkClick r:id="rId8" action="ppaction://hlinksldjump"/>
          </p:cNvPr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ounded Rectangle 12">
            <a:hlinkClick r:id="rId9" action="ppaction://hlinksldjump"/>
          </p:cNvPr>
          <p:cNvSpPr/>
          <p:nvPr/>
        </p:nvSpPr>
        <p:spPr>
          <a:xfrm>
            <a:off x="7858080" y="124920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826920" y="1106640"/>
            <a:ext cx="65534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25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جه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25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Nazani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25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Nazani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25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Nazanin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2"/>
          <p:cNvSpPr/>
          <p:nvPr/>
        </p:nvSpPr>
        <p:spPr>
          <a:xfrm>
            <a:off x="8072280" y="6308640"/>
            <a:ext cx="60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2754000" y="34776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نتیجه گی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325" name="Rounded Rectangle 17"/>
          <p:cNvGrpSpPr/>
          <p:nvPr/>
        </p:nvGrpSpPr>
        <p:grpSpPr>
          <a:xfrm>
            <a:off x="7851600" y="3754440"/>
            <a:ext cx="1225800" cy="536400"/>
            <a:chOff x="7851600" y="3754440"/>
            <a:chExt cx="1225800" cy="536400"/>
          </a:xfrm>
        </p:grpSpPr>
        <p:pic>
          <p:nvPicPr>
            <p:cNvPr id="326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5444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7883640" y="378612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محدودیت ه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8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30" name="Rounded Rectangle 18">
            <a:hlinkClick r:id="rId5" action="ppaction://hlinksldjump"/>
          </p:cNvPr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20">
            <a:hlinkClick r:id="rId6" action="ppaction://hlinksldjump"/>
          </p:cNvPr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ounded Rectangle 21">
            <a:hlinkClick r:id="rId7" action="ppaction://hlinksldjump"/>
          </p:cNvPr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ounded Rectangle 22">
            <a:hlinkClick r:id="rId8" action="ppaction://hlinksldjump"/>
          </p:cNvPr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ounded Rectangle 12">
            <a:hlinkClick r:id="rId9" action="ppaction://hlinksldjump"/>
          </p:cNvPr>
          <p:cNvSpPr/>
          <p:nvPr/>
        </p:nvSpPr>
        <p:spPr>
          <a:xfrm>
            <a:off x="7858080" y="126828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233280" y="547560"/>
            <a:ext cx="7442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b050"/>
                </a:solidFill>
                <a:latin typeface="Calibri"/>
                <a:cs typeface="B Titr"/>
              </a:rPr>
              <a:t>محدودیت 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B Nazanin"/>
              </a:rPr>
              <a:t>در این پژوهش برا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تعداد زیاد پرسش این پژوهش به صورت مق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B Nazani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B Nazani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2"/>
          <p:cNvSpPr/>
          <p:nvPr/>
        </p:nvSpPr>
        <p:spPr>
          <a:xfrm>
            <a:off x="8072280" y="630864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338" name="Rounded Rectangle 17"/>
          <p:cNvGrpSpPr/>
          <p:nvPr/>
        </p:nvGrpSpPr>
        <p:grpSpPr>
          <a:xfrm>
            <a:off x="7851600" y="3773520"/>
            <a:ext cx="1225800" cy="536400"/>
            <a:chOff x="7851600" y="3773520"/>
            <a:chExt cx="1225800" cy="536400"/>
          </a:xfrm>
        </p:grpSpPr>
        <p:pic>
          <p:nvPicPr>
            <p:cNvPr id="339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7352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883640" y="380196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پیشنهاد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1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43" name="Rounded Rectangle 18">
            <a:hlinkClick r:id="rId5" action="ppaction://hlinksldjump"/>
          </p:cNvPr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20">
            <a:hlinkClick r:id="rId6" action="ppaction://hlinksldjump"/>
          </p:cNvPr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ounded Rectangle 21">
            <a:hlinkClick r:id="rId7" action="ppaction://hlinksldjump"/>
          </p:cNvPr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ounded Rectangle 22"/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ounded Rectangle 12"/>
          <p:cNvSpPr/>
          <p:nvPr/>
        </p:nvSpPr>
        <p:spPr>
          <a:xfrm>
            <a:off x="7858080" y="124920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237960" y="1008000"/>
            <a:ext cx="744228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240" algn="ctr" rtl="1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imes New Roman"/>
                <a:cs typeface="B Titr"/>
              </a:rPr>
              <a:t>پیشنهاد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با توجه به پژوهش حاضر و نتایج حاصل از آن، موارد زیر برای پژوهش های آتی پیشنهاد می شود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ژوهش در تعداد نمونه ها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ژوهش د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ژوهش در مشاغل سایر زیر گروه ها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ژوهش د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زوهش و بررس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2"/>
          <p:cNvSpPr/>
          <p:nvPr/>
        </p:nvSpPr>
        <p:spPr>
          <a:xfrm>
            <a:off x="8072280" y="630864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351" name="Rounded Rectangle 17"/>
          <p:cNvGrpSpPr/>
          <p:nvPr/>
        </p:nvGrpSpPr>
        <p:grpSpPr>
          <a:xfrm>
            <a:off x="7851600" y="3773520"/>
            <a:ext cx="1225800" cy="536400"/>
            <a:chOff x="7851600" y="3773520"/>
            <a:chExt cx="1225800" cy="536400"/>
          </a:xfrm>
        </p:grpSpPr>
        <p:pic>
          <p:nvPicPr>
            <p:cNvPr id="352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7352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883640" y="380196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سابمیت مقاله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4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56" name="Rounded Rectangle 18"/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20"/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ounded Rectangle 21"/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ounded Rectangle 22"/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ounded Rectangle 12"/>
          <p:cNvSpPr/>
          <p:nvPr/>
        </p:nvSpPr>
        <p:spPr>
          <a:xfrm>
            <a:off x="7858080" y="124920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2"/>
          <p:cNvSpPr/>
          <p:nvPr/>
        </p:nvSpPr>
        <p:spPr>
          <a:xfrm>
            <a:off x="8072280" y="630864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sp>
        <p:nvSpPr>
          <p:cNvPr id="363" name="Rounded Rectangle 17"/>
          <p:cNvSpPr/>
          <p:nvPr/>
        </p:nvSpPr>
        <p:spPr>
          <a:xfrm>
            <a:off x="7858080" y="38577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حث و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نتیجه گیر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10" descr="Home.p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Exit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66" name="Rounded Rectangle 18"/>
          <p:cNvSpPr/>
          <p:nvPr/>
        </p:nvSpPr>
        <p:spPr>
          <a:xfrm>
            <a:off x="7858080" y="741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ounded Rectangle 20"/>
          <p:cNvSpPr/>
          <p:nvPr/>
        </p:nvSpPr>
        <p:spPr>
          <a:xfrm>
            <a:off x="7858080" y="2143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ounded Rectangle 21"/>
          <p:cNvSpPr/>
          <p:nvPr/>
        </p:nvSpPr>
        <p:spPr>
          <a:xfrm>
            <a:off x="7858080" y="27147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ounded Rectangle 22"/>
          <p:cNvSpPr/>
          <p:nvPr/>
        </p:nvSpPr>
        <p:spPr>
          <a:xfrm>
            <a:off x="7858080" y="3286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500120" y="3929040"/>
            <a:ext cx="28584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1214280" y="3929040"/>
            <a:ext cx="14292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4"/>
          <p:cNvSpPr/>
          <p:nvPr/>
        </p:nvSpPr>
        <p:spPr>
          <a:xfrm>
            <a:off x="1071720" y="3929040"/>
            <a:ext cx="7128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ounded Rectangle 13"/>
          <p:cNvSpPr/>
          <p:nvPr/>
        </p:nvSpPr>
        <p:spPr>
          <a:xfrm>
            <a:off x="7858080" y="1393920"/>
            <a:ext cx="1214640" cy="606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530280" y="5267160"/>
            <a:ext cx="65628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99ff"/>
                </a:solidFill>
                <a:latin typeface="Calibri"/>
                <a:cs typeface="B Titr"/>
              </a:rPr>
              <a:t>با تشکر از توجه شم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Rounded Rectangle 19"/>
          <p:cNvGrpSpPr/>
          <p:nvPr/>
        </p:nvGrpSpPr>
        <p:grpSpPr>
          <a:xfrm>
            <a:off x="7827840" y="4486320"/>
            <a:ext cx="1224000" cy="536400"/>
            <a:chOff x="7827840" y="4486320"/>
            <a:chExt cx="1224000" cy="536400"/>
          </a:xfrm>
        </p:grpSpPr>
        <p:pic>
          <p:nvPicPr>
            <p:cNvPr id="376" name="Rounded Rectangle 19" descr=""/>
            <p:cNvPicPr/>
            <p:nvPr/>
          </p:nvPicPr>
          <p:blipFill>
            <a:blip r:embed="rId4"/>
            <a:stretch/>
          </p:blipFill>
          <p:spPr>
            <a:xfrm>
              <a:off x="7827840" y="4486320"/>
              <a:ext cx="1224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7858080" y="4518000"/>
              <a:ext cx="1162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تقدیر و تشک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Slide Number Placeholder 2"/>
          <p:cNvSpPr/>
          <p:nvPr/>
        </p:nvSpPr>
        <p:spPr>
          <a:xfrm>
            <a:off x="8072280" y="6308640"/>
            <a:ext cx="78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330120" y="996840"/>
            <a:ext cx="6961320" cy="22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تشکر و قدردانی از زحمات بی دریغ اساتید راهنما؛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آقای دکتر 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تشکر و قدردانی از زحمات مشاوران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آقای دکتر 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تشکر و قدردانی از داوران گرامی؛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آقای دکتر 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قدردانی از زحمات اساتید بنده در دوره کارشناسی ارشد؛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آقای دکتر .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قدردانی و تشکر از زحمات کارشناسان گروه؛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خانم .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187" name="Rounded Rectangle 13"/>
          <p:cNvGrpSpPr/>
          <p:nvPr/>
        </p:nvGrpSpPr>
        <p:grpSpPr>
          <a:xfrm>
            <a:off x="7851600" y="1359000"/>
            <a:ext cx="1225800" cy="420480"/>
            <a:chOff x="7851600" y="1359000"/>
            <a:chExt cx="1225800" cy="420480"/>
          </a:xfrm>
        </p:grpSpPr>
        <p:pic>
          <p:nvPicPr>
            <p:cNvPr id="188" name="Rounded Rectangle 13" descr=""/>
            <p:cNvPicPr/>
            <p:nvPr/>
          </p:nvPicPr>
          <p:blipFill>
            <a:blip r:embed="rId2"/>
            <a:stretch/>
          </p:blipFill>
          <p:spPr>
            <a:xfrm>
              <a:off x="7851600" y="1359000"/>
              <a:ext cx="12258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878600" y="1384200"/>
              <a:ext cx="11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یان مسال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92" name="Rounded Rectangle 18">
            <a:hlinkClick r:id="rId5" action="ppaction://hlinksldjump"/>
          </p:cNvPr>
          <p:cNvSpPr/>
          <p:nvPr/>
        </p:nvSpPr>
        <p:spPr>
          <a:xfrm>
            <a:off x="7858080" y="8334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ounded Rectangle 19">
            <a:hlinkClick r:id="rId6" action="ppaction://hlinksldjump"/>
          </p:cNvPr>
          <p:cNvSpPr/>
          <p:nvPr/>
        </p:nvSpPr>
        <p:spPr>
          <a:xfrm>
            <a:off x="7858080" y="1895400"/>
            <a:ext cx="1177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ounded Rectangle 20">
            <a:hlinkClick r:id="rId7" action="ppaction://hlinksldjump"/>
          </p:cNvPr>
          <p:cNvSpPr/>
          <p:nvPr/>
        </p:nvSpPr>
        <p:spPr>
          <a:xfrm>
            <a:off x="7858080" y="316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324000" y="684360"/>
            <a:ext cx="705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صنايع و ک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آخ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در بسیا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ounded Rectangle 14">
            <a:hlinkClick r:id="rId8" action="ppaction://hlinksldjump"/>
          </p:cNvPr>
          <p:cNvSpPr/>
          <p:nvPr/>
        </p:nvSpPr>
        <p:spPr>
          <a:xfrm>
            <a:off x="7839000" y="25304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11">
            <a:hlinkClick r:id="rId9" action="ppaction://hlinksldjump"/>
          </p:cNvPr>
          <p:cNvSpPr/>
          <p:nvPr/>
        </p:nvSpPr>
        <p:spPr>
          <a:xfrm>
            <a:off x="7867800" y="3800520"/>
            <a:ext cx="12142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00" name="Rounded Rectangle 14"/>
          <p:cNvGrpSpPr/>
          <p:nvPr/>
        </p:nvGrpSpPr>
        <p:grpSpPr>
          <a:xfrm>
            <a:off x="7851600" y="2000160"/>
            <a:ext cx="1225800" cy="457200"/>
            <a:chOff x="7851600" y="2000160"/>
            <a:chExt cx="1225800" cy="457200"/>
          </a:xfrm>
        </p:grpSpPr>
        <p:pic>
          <p:nvPicPr>
            <p:cNvPr id="201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7851600" y="2000160"/>
              <a:ext cx="1225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880400" y="2028960"/>
              <a:ext cx="11700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ررسی متون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3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05" name="Rounded Rectangle 18">
            <a:hlinkClick r:id="rId5" action="ppaction://hlinksldjump"/>
          </p:cNvPr>
          <p:cNvSpPr/>
          <p:nvPr/>
        </p:nvSpPr>
        <p:spPr>
          <a:xfrm>
            <a:off x="7856640" y="663480"/>
            <a:ext cx="12142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ounded Rectangle 20">
            <a:hlinkClick r:id="rId6" action="ppaction://hlinksldjump"/>
          </p:cNvPr>
          <p:cNvSpPr/>
          <p:nvPr/>
        </p:nvSpPr>
        <p:spPr>
          <a:xfrm>
            <a:off x="7858080" y="3367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ounded Rectangle 12">
            <a:hlinkClick r:id="rId7" action="ppaction://hlinksldjump"/>
          </p:cNvPr>
          <p:cNvSpPr/>
          <p:nvPr/>
        </p:nvSpPr>
        <p:spPr>
          <a:xfrm>
            <a:off x="7858080" y="1238400"/>
            <a:ext cx="1214640" cy="53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4200" y="955800"/>
          <a:ext cx="7479000" cy="3551040"/>
        </p:xfrm>
        <a:graphic>
          <a:graphicData uri="http://schemas.openxmlformats.org/drawingml/2006/table">
            <a:tbl>
              <a:tblPr/>
              <a:tblGrid>
                <a:gridCol w="3355920"/>
                <a:gridCol w="2462400"/>
                <a:gridCol w="774720"/>
                <a:gridCol w="885960"/>
              </a:tblGrid>
              <a:tr h="62604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نتای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روش ک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س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حقق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روزاد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کارا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103860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فن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سمیت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صارم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کارا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9" name="Rounded Rectangle 15">
            <a:hlinkClick r:id="rId8" action="ppaction://hlinksldjump"/>
          </p:cNvPr>
          <p:cNvSpPr/>
          <p:nvPr/>
        </p:nvSpPr>
        <p:spPr>
          <a:xfrm>
            <a:off x="7858080" y="26668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ounded Rectangle 11">
            <a:hlinkClick r:id="rId9" action="ppaction://hlinksldjump"/>
          </p:cNvPr>
          <p:cNvSpPr/>
          <p:nvPr/>
        </p:nvSpPr>
        <p:spPr>
          <a:xfrm>
            <a:off x="7856640" y="406728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13" name="Rounded Rectangle 13"/>
          <p:cNvGrpSpPr/>
          <p:nvPr/>
        </p:nvGrpSpPr>
        <p:grpSpPr>
          <a:xfrm>
            <a:off x="7815240" y="2712960"/>
            <a:ext cx="1231920" cy="474840"/>
            <a:chOff x="7815240" y="2712960"/>
            <a:chExt cx="1231920" cy="474840"/>
          </a:xfrm>
        </p:grpSpPr>
        <p:pic>
          <p:nvPicPr>
            <p:cNvPr id="214" name="Rounded Rectangle 13" descr=""/>
            <p:cNvPicPr/>
            <p:nvPr/>
          </p:nvPicPr>
          <p:blipFill>
            <a:blip r:embed="rId2"/>
            <a:stretch/>
          </p:blipFill>
          <p:spPr>
            <a:xfrm>
              <a:off x="7815240" y="2712960"/>
              <a:ext cx="12319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845480" y="2738520"/>
              <a:ext cx="11700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اهدا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18" name="Rounded Rectangle 18">
            <a:hlinkClick r:id="rId5" action="ppaction://hlinksldjump"/>
          </p:cNvPr>
          <p:cNvSpPr/>
          <p:nvPr/>
        </p:nvSpPr>
        <p:spPr>
          <a:xfrm>
            <a:off x="7858080" y="82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19">
            <a:hlinkClick r:id="rId6" action="ppaction://hlinksldjump"/>
          </p:cNvPr>
          <p:cNvSpPr/>
          <p:nvPr/>
        </p:nvSpPr>
        <p:spPr>
          <a:xfrm>
            <a:off x="7858080" y="2143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ounded Rectangle 20">
            <a:hlinkClick r:id="rId7" action="ppaction://hlinksldjump"/>
          </p:cNvPr>
          <p:cNvSpPr/>
          <p:nvPr/>
        </p:nvSpPr>
        <p:spPr>
          <a:xfrm>
            <a:off x="7858080" y="33098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ounded Rectangle 21">
            <a:hlinkClick r:id="rId8" action="ppaction://hlinksldjump"/>
          </p:cNvPr>
          <p:cNvSpPr/>
          <p:nvPr/>
        </p:nvSpPr>
        <p:spPr>
          <a:xfrm>
            <a:off x="7858080" y="145584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341040" y="779400"/>
            <a:ext cx="1639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b050"/>
                </a:solidFill>
                <a:latin typeface="Times New Roman"/>
                <a:cs typeface="B Nazanin"/>
              </a:rPr>
              <a:t>هدف کل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03120" y="277920"/>
            <a:ext cx="628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6102000" y="3735360"/>
            <a:ext cx="19119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b050"/>
                </a:solidFill>
                <a:latin typeface="Times New Roman"/>
                <a:cs typeface="B Nazanin"/>
              </a:rPr>
              <a:t>اهداف ویژ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120600" y="3154320"/>
            <a:ext cx="634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ounded Rectangle 14">
            <a:hlinkClick r:id="rId9" action="ppaction://hlinksldjump"/>
          </p:cNvPr>
          <p:cNvSpPr/>
          <p:nvPr/>
        </p:nvSpPr>
        <p:spPr>
          <a:xfrm>
            <a:off x="7858080" y="399420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29" name="Rounded Rectangle 15"/>
          <p:cNvGrpSpPr/>
          <p:nvPr/>
        </p:nvGrpSpPr>
        <p:grpSpPr>
          <a:xfrm>
            <a:off x="7851600" y="3413160"/>
            <a:ext cx="1225800" cy="512640"/>
            <a:chOff x="7851600" y="3413160"/>
            <a:chExt cx="1225800" cy="512640"/>
          </a:xfrm>
        </p:grpSpPr>
        <p:pic>
          <p:nvPicPr>
            <p:cNvPr id="230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7851600" y="3413160"/>
              <a:ext cx="12258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881840" y="3444840"/>
              <a:ext cx="11667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واد و روش ک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34" name="Rounded Rectangle 18">
            <a:hlinkClick r:id="rId5" action="ppaction://hlinksldjump"/>
          </p:cNvPr>
          <p:cNvSpPr/>
          <p:nvPr/>
        </p:nvSpPr>
        <p:spPr>
          <a:xfrm>
            <a:off x="7858080" y="7398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ounded Rectangle 20">
            <a:hlinkClick r:id="rId6" action="ppaction://hlinksldjump"/>
          </p:cNvPr>
          <p:cNvSpPr/>
          <p:nvPr/>
        </p:nvSpPr>
        <p:spPr>
          <a:xfrm>
            <a:off x="7858080" y="201312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ed Rectangle 21">
            <a:hlinkClick r:id="rId7" action="ppaction://hlinksldjump"/>
          </p:cNvPr>
          <p:cNvSpPr/>
          <p:nvPr/>
        </p:nvSpPr>
        <p:spPr>
          <a:xfrm>
            <a:off x="7878600" y="26510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ed Rectangle 12">
            <a:hlinkClick r:id="rId8" action="ppaction://hlinksldjump"/>
          </p:cNvPr>
          <p:cNvSpPr/>
          <p:nvPr/>
        </p:nvSpPr>
        <p:spPr>
          <a:xfrm>
            <a:off x="7858080" y="1295280"/>
            <a:ext cx="1214640" cy="51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79280" y="547560"/>
          <a:ext cx="7513920" cy="5826240"/>
        </p:xfrm>
        <a:graphic>
          <a:graphicData uri="http://schemas.openxmlformats.org/drawingml/2006/table">
            <a:tbl>
              <a:tblPr/>
              <a:tblGrid>
                <a:gridCol w="5800680"/>
                <a:gridCol w="1713240"/>
              </a:tblGrid>
              <a:tr h="316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نوع مطالع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جامعه مورد بررس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1279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روش نمونه گیری و تعیین حجم نمون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عیارهای ور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10382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عیارهای خرو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بزارهای جمع آوری اطلاع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316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آنالیز آمار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ed Rectangle 11">
            <a:hlinkClick r:id="rId9" action="ppaction://hlinksldjump"/>
          </p:cNvPr>
          <p:cNvSpPr/>
          <p:nvPr/>
        </p:nvSpPr>
        <p:spPr>
          <a:xfrm>
            <a:off x="7873920" y="419904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42" name="Rounded Rectangle 15"/>
          <p:cNvGrpSpPr/>
          <p:nvPr/>
        </p:nvGrpSpPr>
        <p:grpSpPr>
          <a:xfrm>
            <a:off x="7851600" y="3432240"/>
            <a:ext cx="1225800" cy="511200"/>
            <a:chOff x="7851600" y="3432240"/>
            <a:chExt cx="1225800" cy="511200"/>
          </a:xfrm>
        </p:grpSpPr>
        <p:pic>
          <p:nvPicPr>
            <p:cNvPr id="243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7851600" y="3432240"/>
              <a:ext cx="1225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881840" y="3459240"/>
              <a:ext cx="11667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واد و روش ک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47" name="Rounded Rectangle 18">
            <a:hlinkClick r:id="rId5" action="ppaction://hlinksldjump"/>
          </p:cNvPr>
          <p:cNvSpPr/>
          <p:nvPr/>
        </p:nvSpPr>
        <p:spPr>
          <a:xfrm>
            <a:off x="7858080" y="7398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ounded Rectangle 20">
            <a:hlinkClick r:id="rId6" action="ppaction://hlinksldjump"/>
          </p:cNvPr>
          <p:cNvSpPr/>
          <p:nvPr/>
        </p:nvSpPr>
        <p:spPr>
          <a:xfrm>
            <a:off x="7858080" y="204480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ounded Rectangle 21">
            <a:hlinkClick r:id="rId7" action="ppaction://hlinksldjump"/>
          </p:cNvPr>
          <p:cNvSpPr/>
          <p:nvPr/>
        </p:nvSpPr>
        <p:spPr>
          <a:xfrm>
            <a:off x="7837560" y="277344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ounded Rectangle 12">
            <a:hlinkClick r:id="rId8" action="ppaction://hlinksldjump"/>
          </p:cNvPr>
          <p:cNvSpPr/>
          <p:nvPr/>
        </p:nvSpPr>
        <p:spPr>
          <a:xfrm>
            <a:off x="7858080" y="1351080"/>
            <a:ext cx="1214640" cy="46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900000" y="678600"/>
            <a:ext cx="6662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پژوه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801720" y="3892680"/>
            <a:ext cx="6487920" cy="1224000"/>
            <a:chOff x="801720" y="3892680"/>
            <a:chExt cx="6487920" cy="1224000"/>
          </a:xfrm>
        </p:grpSpPr>
        <p:sp>
          <p:nvSpPr>
            <p:cNvPr id="253" name="Text Box 8"/>
            <p:cNvSpPr/>
            <p:nvPr/>
          </p:nvSpPr>
          <p:spPr>
            <a:xfrm>
              <a:off x="5567760" y="3892680"/>
              <a:ext cx="1721880" cy="4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5567760" y="4685040"/>
              <a:ext cx="17218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 Box 6"/>
            <p:cNvSpPr/>
            <p:nvPr/>
          </p:nvSpPr>
          <p:spPr>
            <a:xfrm>
              <a:off x="3188880" y="4303440"/>
              <a:ext cx="13417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 Box 5"/>
            <p:cNvSpPr/>
            <p:nvPr/>
          </p:nvSpPr>
          <p:spPr>
            <a:xfrm>
              <a:off x="801720" y="4303440"/>
              <a:ext cx="14173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57" name="AutoShape 4"/>
            <p:cNvCxnSpPr/>
            <p:nvPr/>
          </p:nvCxnSpPr>
          <p:spPr>
            <a:xfrm flipH="1">
              <a:off x="4615920" y="4101480"/>
              <a:ext cx="885240" cy="32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AutoShape 3"/>
            <p:cNvCxnSpPr/>
            <p:nvPr/>
          </p:nvCxnSpPr>
          <p:spPr>
            <a:xfrm flipH="1" flipV="1">
              <a:off x="4615920" y="4519800"/>
              <a:ext cx="885240" cy="42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AutoShape 2"/>
            <p:cNvCxnSpPr/>
            <p:nvPr/>
          </p:nvCxnSpPr>
          <p:spPr>
            <a:xfrm flipH="1">
              <a:off x="2304720" y="4519800"/>
              <a:ext cx="88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0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ounded Rectangle 19">
            <a:hlinkClick r:id="rId9" action="ppaction://hlinksldjump"/>
          </p:cNvPr>
          <p:cNvSpPr/>
          <p:nvPr/>
        </p:nvSpPr>
        <p:spPr>
          <a:xfrm>
            <a:off x="7858080" y="421632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63" name="Rounded Rectangle 16"/>
          <p:cNvGrpSpPr/>
          <p:nvPr/>
        </p:nvGrpSpPr>
        <p:grpSpPr>
          <a:xfrm>
            <a:off x="7851600" y="3206880"/>
            <a:ext cx="1225800" cy="511200"/>
            <a:chOff x="7851600" y="3206880"/>
            <a:chExt cx="1225800" cy="511200"/>
          </a:xfrm>
        </p:grpSpPr>
        <p:pic>
          <p:nvPicPr>
            <p:cNvPr id="264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7851600" y="3206880"/>
              <a:ext cx="1225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881840" y="3238560"/>
              <a:ext cx="11667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یافته ه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68" name="Rounded Rectangle 18">
            <a:hlinkClick r:id="rId5" action="ppaction://hlinksldjump"/>
          </p:cNvPr>
          <p:cNvSpPr/>
          <p:nvPr/>
        </p:nvSpPr>
        <p:spPr>
          <a:xfrm>
            <a:off x="7858080" y="6843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ounded Rectangle 20">
            <a:hlinkClick r:id="rId6" action="ppaction://hlinksldjump"/>
          </p:cNvPr>
          <p:cNvSpPr/>
          <p:nvPr/>
        </p:nvSpPr>
        <p:spPr>
          <a:xfrm>
            <a:off x="7858080" y="20160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ounded Rectangle 21">
            <a:hlinkClick r:id="rId7" action="ppaction://hlinksldjump"/>
          </p:cNvPr>
          <p:cNvSpPr/>
          <p:nvPr/>
        </p:nvSpPr>
        <p:spPr>
          <a:xfrm>
            <a:off x="7858080" y="26146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ounded Rectangle 22">
            <a:hlinkClick r:id="rId8" action="ppaction://hlinksldjump"/>
          </p:cNvPr>
          <p:cNvSpPr/>
          <p:nvPr/>
        </p:nvSpPr>
        <p:spPr>
          <a:xfrm>
            <a:off x="7858080" y="38577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حث و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نتیجه گیر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ounded Rectangle 12">
            <a:hlinkClick r:id="rId9" action="ppaction://hlinksldjump"/>
          </p:cNvPr>
          <p:cNvSpPr/>
          <p:nvPr/>
        </p:nvSpPr>
        <p:spPr>
          <a:xfrm>
            <a:off x="7858080" y="124776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Chart 13" descr=""/>
          <p:cNvPicPr/>
          <p:nvPr/>
        </p:nvPicPr>
        <p:blipFill>
          <a:blip r:embed="rId10"/>
          <a:stretch/>
        </p:blipFill>
        <p:spPr>
          <a:xfrm>
            <a:off x="55440" y="19080"/>
            <a:ext cx="4516560" cy="2820960"/>
          </a:xfrm>
          <a:prstGeom prst="rect">
            <a:avLst/>
          </a:prstGeom>
          <a:ln w="0">
            <a:noFill/>
          </a:ln>
        </p:spPr>
      </p:pic>
      <p:pic>
        <p:nvPicPr>
          <p:cNvPr id="274" name="Chart 14" descr=""/>
          <p:cNvPicPr/>
          <p:nvPr/>
        </p:nvPicPr>
        <p:blipFill>
          <a:blip r:embed="rId11"/>
          <a:stretch/>
        </p:blipFill>
        <p:spPr>
          <a:xfrm>
            <a:off x="4363920" y="19080"/>
            <a:ext cx="3329280" cy="2820960"/>
          </a:xfrm>
          <a:prstGeom prst="rect">
            <a:avLst/>
          </a:prstGeom>
          <a:ln w="0">
            <a:noFill/>
          </a:ln>
        </p:spPr>
      </p:pic>
      <p:pic>
        <p:nvPicPr>
          <p:cNvPr id="275" name="Chart 15" descr=""/>
          <p:cNvPicPr/>
          <p:nvPr/>
        </p:nvPicPr>
        <p:blipFill>
          <a:blip r:embed="rId12"/>
          <a:stretch/>
        </p:blipFill>
        <p:spPr>
          <a:xfrm>
            <a:off x="4363920" y="3041640"/>
            <a:ext cx="3329280" cy="3481560"/>
          </a:xfrm>
          <a:prstGeom prst="rect">
            <a:avLst/>
          </a:prstGeom>
          <a:ln w="0">
            <a:noFill/>
          </a:ln>
        </p:spPr>
      </p:pic>
      <p:pic>
        <p:nvPicPr>
          <p:cNvPr id="276" name="Chart 23" descr=""/>
          <p:cNvPicPr/>
          <p:nvPr/>
        </p:nvPicPr>
        <p:blipFill>
          <a:blip r:embed="rId13"/>
          <a:stretch/>
        </p:blipFill>
        <p:spPr>
          <a:xfrm>
            <a:off x="55440" y="3054240"/>
            <a:ext cx="4675320" cy="34689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1690560" y="13824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b050"/>
                </a:solidFill>
                <a:latin typeface="Calibri"/>
                <a:cs typeface="B Nazanin"/>
              </a:rPr>
              <a:t>متغیر دموگرافیک نوع شغ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26"/>
          <p:cNvSpPr/>
          <p:nvPr/>
        </p:nvSpPr>
        <p:spPr>
          <a:xfrm>
            <a:off x="5489640" y="154080"/>
            <a:ext cx="20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b050"/>
                </a:solidFill>
                <a:latin typeface="Calibri"/>
                <a:cs typeface="B Nazanin"/>
              </a:rPr>
              <a:t>متغیر دموگرافیک وضعیت تاه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27"/>
          <p:cNvSpPr/>
          <p:nvPr/>
        </p:nvSpPr>
        <p:spPr>
          <a:xfrm>
            <a:off x="1797120" y="290664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b050"/>
                </a:solidFill>
                <a:latin typeface="Calibri"/>
                <a:cs typeface="B Nazanin"/>
              </a:rPr>
              <a:t>متغیر دموگرافیک س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28"/>
          <p:cNvSpPr/>
          <p:nvPr/>
        </p:nvSpPr>
        <p:spPr>
          <a:xfrm>
            <a:off x="5292720" y="2889360"/>
            <a:ext cx="212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b050"/>
                </a:solidFill>
                <a:latin typeface="Calibri"/>
                <a:cs typeface="B Nazanin"/>
              </a:rPr>
              <a:t>متغیر دموگرافیک سطح تحصیل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83" name="Rounded Rectangle 16"/>
          <p:cNvGrpSpPr/>
          <p:nvPr/>
        </p:nvGrpSpPr>
        <p:grpSpPr>
          <a:xfrm>
            <a:off x="7851600" y="3206880"/>
            <a:ext cx="1225800" cy="511200"/>
            <a:chOff x="7851600" y="3206880"/>
            <a:chExt cx="1225800" cy="511200"/>
          </a:xfrm>
        </p:grpSpPr>
        <p:pic>
          <p:nvPicPr>
            <p:cNvPr id="284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7851600" y="3206880"/>
              <a:ext cx="1225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881840" y="3238560"/>
              <a:ext cx="11667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یافته ه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88" name="Rounded Rectangle 18">
            <a:hlinkClick r:id="rId5" action="ppaction://hlinksldjump"/>
          </p:cNvPr>
          <p:cNvSpPr/>
          <p:nvPr/>
        </p:nvSpPr>
        <p:spPr>
          <a:xfrm>
            <a:off x="7858080" y="6843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ounded Rectangle 20">
            <a:hlinkClick r:id="rId6" action="ppaction://hlinksldjump"/>
          </p:cNvPr>
          <p:cNvSpPr/>
          <p:nvPr/>
        </p:nvSpPr>
        <p:spPr>
          <a:xfrm>
            <a:off x="7858080" y="20160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ounded Rectangle 21">
            <a:hlinkClick r:id="rId7" action="ppaction://hlinksldjump"/>
          </p:cNvPr>
          <p:cNvSpPr/>
          <p:nvPr/>
        </p:nvSpPr>
        <p:spPr>
          <a:xfrm>
            <a:off x="7858080" y="26146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ounded Rectangle 22">
            <a:hlinkClick r:id="rId8" action="ppaction://hlinksldjump"/>
          </p:cNvPr>
          <p:cNvSpPr/>
          <p:nvPr/>
        </p:nvSpPr>
        <p:spPr>
          <a:xfrm>
            <a:off x="7858080" y="38577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حث و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نتیجه گیر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ounded Rectangle 12">
            <a:hlinkClick r:id="rId9" action="ppaction://hlinksldjump"/>
          </p:cNvPr>
          <p:cNvSpPr/>
          <p:nvPr/>
        </p:nvSpPr>
        <p:spPr>
          <a:xfrm>
            <a:off x="7858080" y="124776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95280" y="249120"/>
          <a:ext cx="7129440" cy="1981440"/>
        </p:xfrm>
        <a:graphic>
          <a:graphicData uri="http://schemas.openxmlformats.org/drawingml/2006/table">
            <a:tbl>
              <a:tblPr/>
              <a:tblGrid>
                <a:gridCol w="2376360"/>
                <a:gridCol w="2376720"/>
                <a:gridCol w="237636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سط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ام متغی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39760" y="3068640"/>
          <a:ext cx="7440480" cy="3403440"/>
        </p:xfrm>
        <a:graphic>
          <a:graphicData uri="http://schemas.openxmlformats.org/drawingml/2006/table">
            <a:tbl>
              <a:tblPr/>
              <a:tblGrid>
                <a:gridCol w="2997000"/>
                <a:gridCol w="1068480"/>
                <a:gridCol w="919080"/>
                <a:gridCol w="1290960"/>
                <a:gridCol w="1164960"/>
              </a:tblGrid>
              <a:tr h="990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تیج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سطح معنی دار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ضریب همبستگ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وع آزمون همبستگ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وع متغی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7207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5" name="TextBox 3"/>
          <p:cNvSpPr/>
          <p:nvPr/>
        </p:nvSpPr>
        <p:spPr>
          <a:xfrm>
            <a:off x="414360" y="2703600"/>
            <a:ext cx="715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b050"/>
                </a:solidFill>
                <a:latin typeface="Calibri"/>
                <a:cs typeface="B Nazanin"/>
              </a:rPr>
              <a:t>بررسی همبستگی بین متغیرهای بار کاری ذهنی، توانایی انجام کار و شکست شناختی با متغیر خستگی مزم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98" name="Rounded Rectangle 17"/>
          <p:cNvGrpSpPr/>
          <p:nvPr/>
        </p:nvGrpSpPr>
        <p:grpSpPr>
          <a:xfrm>
            <a:off x="7851600" y="3754440"/>
            <a:ext cx="1225800" cy="536400"/>
            <a:chOff x="7851600" y="3754440"/>
            <a:chExt cx="1225800" cy="536400"/>
          </a:xfrm>
        </p:grpSpPr>
        <p:pic>
          <p:nvPicPr>
            <p:cNvPr id="299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5444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883640" y="378612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حث و </a:t>
              </a:r>
              <a:br>
                <a:rPr sz="1400"/>
              </a:b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نتیجه گیر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1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03" name="Rounded Rectangle 18">
            <a:hlinkClick r:id="rId5" action="ppaction://hlinksldjump"/>
          </p:cNvPr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ounded Rectangle 20">
            <a:hlinkClick r:id="rId6" action="ppaction://hlinksldjump"/>
          </p:cNvPr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ounded Rectangle 21">
            <a:hlinkClick r:id="rId7" action="ppaction://hlinksldjump"/>
          </p:cNvPr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ounded Rectangle 22">
            <a:hlinkClick r:id="rId8" action="ppaction://hlinksldjump"/>
          </p:cNvPr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ounded Rectangle 12">
            <a:hlinkClick r:id="rId9" action="ppaction://hlinksldjump"/>
          </p:cNvPr>
          <p:cNvSpPr/>
          <p:nvPr/>
        </p:nvSpPr>
        <p:spPr>
          <a:xfrm>
            <a:off x="7858080" y="1268280"/>
            <a:ext cx="121464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81080" y="547560"/>
          <a:ext cx="7513560" cy="5892840"/>
        </p:xfrm>
        <a:graphic>
          <a:graphicData uri="http://schemas.openxmlformats.org/drawingml/2006/table">
            <a:tbl>
              <a:tblPr/>
              <a:tblGrid>
                <a:gridCol w="3757680"/>
                <a:gridCol w="3755880"/>
              </a:tblGrid>
              <a:tr h="35532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قایسه با سایر مطال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تایج مطالعه حاض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محمد زاده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65/20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 بار کاری ذهنی کل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69/63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طح بال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81108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صفری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37/18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صارمی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38/85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 توانایی انجام کار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35/20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طح متوس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مهرابی زاده هنرمند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11/52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</a:t>
                      </a:r>
                      <a:br>
                        <a:rPr sz="1200"/>
                      </a:b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 خستگی مزم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15/58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81108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الاتر از مطالعه یوسف زاده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37/77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پایین تر از مطالعه محمدی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70/31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 شکست شناختی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53/30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طح متوس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208872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در مطالعه ابراهیم زاده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0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بین گروه سنی و وضعیت خستگی مزمن ارتباط معنادار بود اما بین جنسیت، وضعیت تاهل، سابقه کار و سطح تحصیلات با خستگی مزمن رابطه معناداری وجود نداشت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در مطالعه یوسف زاده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6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بین سن و سابقه کار با خستگی مزمن ارتباط معنی داری وجود داش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در مطالعه سرسنگی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5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بین سابقه کار و ساعت کار با بار کاری ارتباط معنی داری وجود نداش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رتباط معنی دار بین متغیرهای دموگرافیک (سن، وضعیت تاهل و ...) با متغیر های خستگی مزمن، توانایی انجام کار، بار کاری ذهنی و شکست شناخت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81108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سوبرامانیام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عدم همخوانی با مطالعه بخشی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ین بار کاری ذهنی با خستگی مزمن، ارتباط معنی دار اندک و مستقیم وجود دارد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عدم همخوانی با مطالعه هندراتی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ین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خرده مقیاس های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بار کاری ذهنی با خستگی مزمن، ارتباط معنی دار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توسط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و مستقیم وجود دارد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44604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فن و اسمیت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ین خستگی مزمن با شکست شناختی، ارتباط معنی دار خیلی زیاد و مستقیم وجود دارد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04:26:14Z</dcterms:created>
  <dc:creator>Omid</dc:creator>
  <dc:description/>
  <dc:language>en-US</dc:language>
  <cp:lastModifiedBy>KM</cp:lastModifiedBy>
  <dcterms:modified xsi:type="dcterms:W3CDTF">2024-07-09T07:36:24Z</dcterms:modified>
  <cp:revision>150</cp:revision>
  <dc:subject/>
  <dc:title>Slide 1</dc:title>
</cp:coreProperties>
</file>